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6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17E-7A67-4E9F-A7C7-DD10292A619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CBC-6A84-4235-933D-33F298A1DB7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76B1-F252-4E9C-8934-A06205899DF5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F55D-4892-470A-93E2-3934B8957185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сихогено, 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D578-A36D-4B77-AFE8-8941312E661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0BB4-A714-491D-8194-D6E78F158DB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DAE9-2108-4D2C-83A4-94264065C98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D56-DCF9-475F-9ECA-102B31524A0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49D-7CDC-42E4-A46A-76B2BCD24AA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D0F-47FE-4B7C-B255-701CD6557F7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F82-8EF9-4DA5-8D3D-F9E8E4F7915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AB4-72E3-4388-BCE9-63C8262B39D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D9F-F4B9-42B8-9868-39235CCA879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241-545B-4C94-A9E1-E6D6270C79C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FAA-3883-46B4-9A5B-A8AB2E2AF61C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1B4-8884-42DA-9A83-4086EF20E43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079-8148-4444-819A-7A4AE3B5666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76B-BE65-4D91-B2CD-44401C10FFD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BAF-4FF9-4EF6-A485-31E206B90E4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FAA-D656-4121-964F-1D2887F2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31B-5EEA-4726-9C28-2D02B6A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AB0-9CAC-4844-80CE-E2A656E4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AD2-AEC8-4C9C-93E3-65AF6D8E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EA2A-4BF0-4435-81AF-10FD7F2A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A4E5-D721-4185-9C40-EF55614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A6B-D0F0-4AD1-B1BB-DAA8B86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02E-B363-498D-9498-BE2B263B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88C7-5277-4F30-A77E-E1D1659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A98A-C008-46E3-9657-ABC16F6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2479-D3F4-4A98-80A2-C8AA86E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9A4-ED04-46B0-AC91-45DF2EF8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348-CE07-4CA0-8D65-BBC85F8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6F37-EA2A-4458-8F37-3E99ABE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DDAA-3177-4516-8EC1-2961504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949F-88F0-4419-BED5-F02CF43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442-CDD9-427C-8324-23CBEA89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2B8B-2457-40E5-8776-09812F49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DD05-B6EB-46AA-8CB0-C4F111B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E0CF-00D8-41C9-BA6B-CBB669A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D6A7-5AFD-40A4-89E4-C3D27E6A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D1E1-2113-4C30-840C-CA76AEB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3AA-4DC0-4131-B76F-9EDCA22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B6F5-EDF6-4233-BE1A-75D35D2A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4D96-CC5A-4BCC-8BDE-3E5E9C3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D26D-05E2-4C57-9116-05FF1D7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D15F-5282-4DEF-AA98-A122536D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E660-E24A-4699-BA4C-9E15B10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BC66-6B6D-413E-9346-1855658B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FBC6-3BC2-496B-BD31-E0ABFFC6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0FE8-9EDF-4249-8A7C-7E1234B9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719E-C522-42AE-BF66-861C437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E0BF-E5C3-4F55-8198-A113294C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304-6F6A-474F-B535-8ABEEA5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2C9C-F319-4B63-BA43-C0BE9AB9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7B8B-8250-4114-B329-8720837B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C602-A6CE-41BE-BC76-29EA0CC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7FB9-4724-4B2D-BE75-A6E3CAB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A6B7-4508-429B-83CA-DD1C6CA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BD16-5B23-4C18-B239-894CBE5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D9CE-5958-41B6-AC46-C8464AE1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D05B-A83A-4DFA-A1F8-F63FE06A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53A1-D992-4168-B427-DAF5AD1F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95CD-174E-4CD9-BA14-4A878E45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48E-B435-4132-BADA-1DE73EE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A9FC-4B09-4943-8249-1FC4322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35D9-7936-423A-A6F3-E73331D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3A8E-8A6D-4326-9C0E-A8E3D784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CADF5-5612-4B2C-A3BE-0FFECC4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0678-3FAB-410B-A157-B9B4ABE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88C8-4F70-41B8-85B5-F67DF18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8795-5E79-4B69-A416-2505E04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A1EC-E665-46AC-9F58-2B162B0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E7EB-D2D6-4CE1-82A6-5EFCF4C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EADD-1F3C-4B39-8EF0-336EF863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576-2F9A-4654-8DD7-A4ED2306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9085-88A3-4221-B475-A047C8CB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6B1-4421-4D69-8F5E-96EA0AE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7DE-3F70-41F3-8973-DE63EDD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BDD-57C9-4073-8B4B-BD6E65C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192-46E2-46B4-BDC8-2D2C0D3A9A14}" type="slidenum"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828-E5AB-41B9-AC00-15120BA73B3A}" type="slidenum">
              <a:rPr b="0" lang="sr-Latn-C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83BB-1B24-40CB-8645-B0A752F059B2}" type="slidenum">
              <a:rPr b="0" lang="sr-Latn-C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364-F728-4563-8FB6-9253DBB27D71}" type="slidenum"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8282-D50F-4DF8-B076-EBFFAC9AF2FC}" type="slidenum">
              <a:rPr b="0" lang="sl-S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395280" y="1484280"/>
            <a:ext cx="80643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мет : Здравствена Н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вна јединица  БР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с Здравствене неге. Утврђивање потреба за н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. Др Иван Чекерев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285" name="_s2052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2053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2054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2055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2056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2058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2059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2060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2061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5500800" y="435780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8320" y="-387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АНА </a:t>
            </a:r>
            <a:r>
              <a:rPr b="1" i="1" lang="sl-SI" sz="3200" spc="-1" strike="noStrike">
                <a:solidFill>
                  <a:srgbClr val="04617b"/>
                </a:solidFill>
                <a:latin typeface="Arial"/>
                <a:ea typeface="Arial"/>
              </a:rPr>
              <a:t>1998</a:t>
            </a:r>
            <a:r>
              <a:rPr b="1" i="1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. год. представља ПЗН са 6 фаз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04" name="Diagram 5"/>
          <p:cNvGrpSpPr/>
          <p:nvPr/>
        </p:nvGrpSpPr>
        <p:grpSpPr>
          <a:xfrm>
            <a:off x="2495520" y="1979640"/>
            <a:ext cx="4156200" cy="4068720"/>
            <a:chOff x="2495520" y="1979640"/>
            <a:chExt cx="4156200" cy="4068720"/>
          </a:xfrm>
        </p:grpSpPr>
        <p:sp>
          <p:nvSpPr>
            <p:cNvPr id="305" name="_s3076"/>
            <p:cNvSpPr/>
            <p:nvPr/>
          </p:nvSpPr>
          <p:spPr>
            <a:xfrm>
              <a:off x="3722760" y="199692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3077"/>
            <p:cNvSpPr/>
            <p:nvPr/>
          </p:nvSpPr>
          <p:spPr>
            <a:xfrm rot="3060000">
              <a:off x="4565160" y="2403360"/>
              <a:ext cx="1698840" cy="1698840"/>
            </a:xfrm>
            <a:custGeom>
              <a:avLst/>
              <a:gdLst>
                <a:gd name="textAreaLeft" fmla="*/ 0 w 1698840"/>
                <a:gd name="textAreaRight" fmla="*/ 1699200 w 169884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3078"/>
            <p:cNvSpPr/>
            <p:nvPr/>
          </p:nvSpPr>
          <p:spPr>
            <a:xfrm rot="6180000">
              <a:off x="4774680" y="331596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3079"/>
            <p:cNvSpPr/>
            <p:nvPr/>
          </p:nvSpPr>
          <p:spPr>
            <a:xfrm rot="9240000">
              <a:off x="4190760" y="404928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3080"/>
            <p:cNvSpPr/>
            <p:nvPr/>
          </p:nvSpPr>
          <p:spPr>
            <a:xfrm rot="12360000">
              <a:off x="3254040" y="404928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3081"/>
            <p:cNvSpPr/>
            <p:nvPr/>
          </p:nvSpPr>
          <p:spPr>
            <a:xfrm rot="15420000">
              <a:off x="2669760" y="3317040"/>
              <a:ext cx="1698840" cy="1698840"/>
            </a:xfrm>
            <a:custGeom>
              <a:avLst/>
              <a:gdLst>
                <a:gd name="textAreaLeft" fmla="*/ 0 w 1698840"/>
                <a:gd name="textAreaRight" fmla="*/ 1699200 w 169884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3082"/>
            <p:cNvSpPr/>
            <p:nvPr/>
          </p:nvSpPr>
          <p:spPr>
            <a:xfrm rot="18540000">
              <a:off x="2877840" y="2403000"/>
              <a:ext cx="1698840" cy="1698480"/>
            </a:xfrm>
            <a:custGeom>
              <a:avLst/>
              <a:gdLst>
                <a:gd name="textAreaLeft" fmla="*/ 0 w 1698840"/>
                <a:gd name="textAreaRight" fmla="*/ 1699200 w 169884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3083"/>
            <p:cNvSpPr/>
            <p:nvPr/>
          </p:nvSpPr>
          <p:spPr>
            <a:xfrm>
              <a:off x="5016600" y="197964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3084"/>
            <p:cNvSpPr/>
            <p:nvPr/>
          </p:nvSpPr>
          <p:spPr>
            <a:xfrm>
              <a:off x="2495520" y="3195720"/>
              <a:ext cx="66528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3085"/>
            <p:cNvSpPr/>
            <p:nvPr/>
          </p:nvSpPr>
          <p:spPr>
            <a:xfrm>
              <a:off x="3463920" y="198108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3086"/>
            <p:cNvSpPr/>
            <p:nvPr/>
          </p:nvSpPr>
          <p:spPr>
            <a:xfrm>
              <a:off x="5986440" y="319392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Njegovalna dijagnoz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87"/>
            <p:cNvSpPr/>
            <p:nvPr/>
          </p:nvSpPr>
          <p:spPr>
            <a:xfrm>
              <a:off x="5640480" y="470844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Cil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88"/>
            <p:cNvSpPr/>
            <p:nvPr/>
          </p:nvSpPr>
          <p:spPr>
            <a:xfrm>
              <a:off x="4241880" y="538308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iran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89"/>
            <p:cNvSpPr/>
            <p:nvPr/>
          </p:nvSpPr>
          <p:spPr>
            <a:xfrm>
              <a:off x="2841480" y="470988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Provođen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3"/>
          <p:cNvSpPr/>
          <p:nvPr/>
        </p:nvSpPr>
        <p:spPr>
          <a:xfrm>
            <a:off x="5072040" y="2143080"/>
            <a:ext cx="12146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500800" y="335772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857920" y="485784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Циљ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929040" y="5643720"/>
            <a:ext cx="128592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-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2714760" y="4857840"/>
            <a:ext cx="14284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2500200" y="3357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3071880" y="214308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Враћ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3429000" y="5929200"/>
            <a:ext cx="4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5643720" y="4643280"/>
            <a:ext cx="150012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Предуслови за спровођење ПЗ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85840" y="1934640"/>
            <a:ext cx="8858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нањ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обра организација (примењује неопходне критеријуме, стандарде, нормативе: рада, кадра, времена, опрем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из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конско утемељење медицинске докумен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имска сарадњ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Главне фазе ПЗН се одвијају се следећим редоследом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тврђивање потреба болесника за негом (проце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варање сестринске дијагно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ланирање не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еализовање планираних активности (приме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валуација (вредновањ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6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2600" y="665280"/>
            <a:ext cx="8948880" cy="2565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Утврђивање потребе за него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е за негом се утврђују на основу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цене здрављ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г ста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(на основу сагледавања физичког, психичког и социјалног стања појединца, групе и заједнице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4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28400" y="999720"/>
            <a:ext cx="8429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тврђивање потреба корисника за него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фаза процеса кроз коју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купљају и процењују подац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убјективн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бјективном стању појединца, породице, заједнице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колност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у којима је наста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и пробле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чије решавање је потребна стручна помоћ службе здравствене нег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еговање обухват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гледавање потреба корисника (болесника) за нег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зналажење одговарајућих начина да се помогне у задовољавању тих потреб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8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Класификација потреба за З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лоз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које имају у човековом животу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арне  -  секундар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анку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слеђене – стечен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дручју човековог живот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олошке  - социјал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4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римарне потребе за ЗН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2876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е биолошк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е социјал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Примарне биолошке: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риј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храна, вода, кисеони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иминациј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окраћа и столиц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чувањем психофизичког интегрите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м и одмор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суалним задовољење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везана са репродукцијом и одржавањем човека као биолошке врст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римарне потребе за З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е социјалн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итал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за несметано функционисање чове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у људској заједниц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фирмациј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аутореспект, престиж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руштв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им конформизмо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(складан однос са средином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ен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пријатни доживљај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а з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моостварењ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142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3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0040" y="1571760"/>
          <a:ext cx="8358120" cy="121896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12189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 здравствене нег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тврђивање потреба за нег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9680" y="-1072080"/>
            <a:ext cx="8643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sr-CS" sz="2800" spc="-1" strike="noStrike">
                <a:solidFill>
                  <a:srgbClr val="04617b"/>
                </a:solidFill>
                <a:latin typeface="Arial"/>
                <a:ea typeface="Arial"/>
              </a:rPr>
              <a:t>Масловљев  модел основних људских потреба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Isosceles Triangle 3"/>
          <p:cNvSpPr/>
          <p:nvPr/>
        </p:nvSpPr>
        <p:spPr>
          <a:xfrm>
            <a:off x="1143000" y="2071800"/>
            <a:ext cx="7143840" cy="4286160"/>
          </a:xfrm>
          <a:prstGeom prst="triangle">
            <a:avLst>
              <a:gd name="adj" fmla="val 46935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428840" y="6000840"/>
            <a:ext cx="65721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к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643040" y="5643720"/>
            <a:ext cx="60008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штита и сигур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928880" y="5286240"/>
            <a:ext cx="542916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убав и припад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2214720" y="4929120"/>
            <a:ext cx="48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штовање и самопошто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2500200" y="4572000"/>
            <a:ext cx="42865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актуе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2928960" y="4000680"/>
            <a:ext cx="33577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гнитивне (сазнајне)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3286080" y="3643200"/>
            <a:ext cx="257184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стетск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Масловљев  модел основних људских потреб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рахам  Маслов поставља модел хијерархије људских потреба у виду пирамиде у којој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олошке потребе постављене на баз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ирамиде, а св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е на њеним вишим ниво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лов сматра д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вљање следеће потреб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хијерархији потреба настаје тек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дође задовољења претходних потреб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тој хијерархиј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ње хијерархије потреба, односно апсолутне и релативне доминације има важно практично значење у здравственој нез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8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Модели потребе за негом – </a:t>
            </a:r>
            <a:r>
              <a:rPr b="1" i="1" lang="sr-Latn-CS" sz="4000" spc="-1" strike="noStrike">
                <a:solidFill>
                  <a:srgbClr val="04617b"/>
                </a:solidFill>
                <a:latin typeface="Arial"/>
                <a:ea typeface="Arial"/>
              </a:rPr>
              <a:t>Richard Kalis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Kalish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почетком 80-тих година двадесетог века Масловљев модел прилагодио потребама здравствене неге, тако што ј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изиолошке потреб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делио у две груп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е опстанка (преживљавањ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е  стимулац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5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Подела физиолошких потреба по </a:t>
            </a:r>
            <a:r>
              <a:rPr b="1" i="1" lang="sr-Latn-CS" sz="4000" spc="-1" strike="noStrike">
                <a:solidFill>
                  <a:srgbClr val="04617b"/>
                </a:solidFill>
                <a:latin typeface="Arial"/>
                <a:ea typeface="Arial"/>
              </a:rPr>
              <a:t>Kalish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8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овек по правил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задовољи потребе опстан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пре него се усмери на виши ниво потреб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жи да задовољи потребе стимулације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ери коју дозвољава његово здравствено ст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којима се пружа здравствена нег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rapezoid 3"/>
          <p:cNvSpPr/>
          <p:nvPr/>
        </p:nvSpPr>
        <p:spPr>
          <a:xfrm>
            <a:off x="1143000" y="4143240"/>
            <a:ext cx="6429240" cy="1787760"/>
          </a:xfrm>
          <a:custGeom>
            <a:avLst/>
            <a:gdLst>
              <a:gd name="textAreaLeft" fmla="*/ 297720 w 6429240"/>
              <a:gd name="textAreaRight" fmla="*/ 6131520 w 6429240"/>
              <a:gd name="textAreaTop" fmla="*/ 82800 h 1787760"/>
              <a:gd name="textAreaBottom" fmla="*/ 1788120 h 1787760"/>
            </a:gdLst>
            <a:ahLst/>
            <a:rect l="textAreaLeft" t="textAreaTop" r="textAreaRight" b="textAreaBottom"/>
            <a:pathLst>
              <a:path w="6429375" h="1787525">
                <a:moveTo>
                  <a:pt x="0" y="1787525"/>
                </a:moveTo>
                <a:lnTo>
                  <a:pt x="446881" y="0"/>
                </a:lnTo>
                <a:lnTo>
                  <a:pt x="5982494" y="0"/>
                </a:lnTo>
                <a:lnTo>
                  <a:pt x="6429375" y="1787525"/>
                </a:lnTo>
                <a:close/>
              </a:path>
            </a:pathLst>
          </a:custGeom>
          <a:noFill/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5"/>
          <p:cNvSpPr/>
          <p:nvPr/>
        </p:nvSpPr>
        <p:spPr>
          <a:xfrm flipV="1">
            <a:off x="1366200" y="5000400"/>
            <a:ext cx="6062760" cy="3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9"/>
          <p:cNvSpPr/>
          <p:nvPr/>
        </p:nvSpPr>
        <p:spPr>
          <a:xfrm flipV="1">
            <a:off x="2141640" y="5000760"/>
            <a:ext cx="1440" cy="930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0"/>
          <p:cNvSpPr/>
          <p:nvPr/>
        </p:nvSpPr>
        <p:spPr>
          <a:xfrm flipV="1">
            <a:off x="2999520" y="5000400"/>
            <a:ext cx="1800" cy="928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1290960" y="5357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153160" y="53578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5"/>
          <p:cNvSpPr/>
          <p:nvPr/>
        </p:nvSpPr>
        <p:spPr>
          <a:xfrm flipV="1">
            <a:off x="3857760" y="5000400"/>
            <a:ext cx="1440" cy="928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6"/>
          <p:cNvSpPr/>
          <p:nvPr/>
        </p:nvSpPr>
        <p:spPr>
          <a:xfrm flipV="1">
            <a:off x="4714920" y="5000400"/>
            <a:ext cx="1440" cy="928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7"/>
          <p:cNvSpPr/>
          <p:nvPr/>
        </p:nvSpPr>
        <p:spPr>
          <a:xfrm flipV="1">
            <a:off x="5571360" y="5000400"/>
            <a:ext cx="1800" cy="928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8"/>
          <p:cNvSpPr/>
          <p:nvPr/>
        </p:nvSpPr>
        <p:spPr>
          <a:xfrm flipV="1">
            <a:off x="6429240" y="5000760"/>
            <a:ext cx="0" cy="930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V="1">
            <a:off x="2144880" y="411300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2"/>
          <p:cNvSpPr/>
          <p:nvPr/>
        </p:nvSpPr>
        <p:spPr>
          <a:xfrm flipV="1">
            <a:off x="3571920" y="4143240"/>
            <a:ext cx="0" cy="857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3"/>
          <p:cNvSpPr/>
          <p:nvPr/>
        </p:nvSpPr>
        <p:spPr>
          <a:xfrm flipV="1">
            <a:off x="4429080" y="4143240"/>
            <a:ext cx="0" cy="857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4"/>
          <p:cNvSpPr/>
          <p:nvPr/>
        </p:nvSpPr>
        <p:spPr>
          <a:xfrm flipV="1">
            <a:off x="5786280" y="41432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6"/>
          <p:cNvSpPr/>
          <p:nvPr/>
        </p:nvSpPr>
        <p:spPr>
          <a:xfrm>
            <a:off x="3002400" y="53578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7"/>
          <p:cNvSpPr/>
          <p:nvPr/>
        </p:nvSpPr>
        <p:spPr>
          <a:xfrm>
            <a:off x="3794400" y="5214960"/>
            <a:ext cx="9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п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8"/>
          <p:cNvSpPr/>
          <p:nvPr/>
        </p:nvSpPr>
        <p:spPr>
          <a:xfrm>
            <a:off x="4722120" y="521496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и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9"/>
          <p:cNvSpPr/>
          <p:nvPr/>
        </p:nvSpPr>
        <p:spPr>
          <a:xfrm>
            <a:off x="5573880" y="53578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0"/>
          <p:cNvSpPr/>
          <p:nvPr/>
        </p:nvSpPr>
        <p:spPr>
          <a:xfrm>
            <a:off x="6363360" y="528624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бега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е 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1"/>
          <p:cNvSpPr/>
          <p:nvPr/>
        </p:nvSpPr>
        <p:spPr>
          <a:xfrm>
            <a:off x="1574640" y="4357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2"/>
          <p:cNvSpPr/>
          <p:nvPr/>
        </p:nvSpPr>
        <p:spPr>
          <a:xfrm>
            <a:off x="2144880" y="428616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3"/>
          <p:cNvSpPr/>
          <p:nvPr/>
        </p:nvSpPr>
        <p:spPr>
          <a:xfrm>
            <a:off x="3505320" y="4286160"/>
            <a:ext cx="9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ад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знал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4"/>
          <p:cNvSpPr/>
          <p:nvPr/>
        </p:nvSpPr>
        <p:spPr>
          <a:xfrm>
            <a:off x="4507920" y="428616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у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вор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6"/>
          <p:cNvSpPr/>
          <p:nvPr/>
        </p:nvSpPr>
        <p:spPr>
          <a:xfrm>
            <a:off x="5793840" y="42148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живља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ов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7566120" y="5234040"/>
            <a:ext cx="1469880" cy="646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Потр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опст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7545240" y="4143240"/>
            <a:ext cx="1598760" cy="757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Потр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Потребе човека – </a:t>
            </a:r>
            <a:r>
              <a:rPr b="1" i="1" lang="en-US" sz="4000" spc="-1" strike="noStrike">
                <a:solidFill>
                  <a:srgbClr val="04617b"/>
                </a:solidFill>
                <a:latin typeface="Arial"/>
                <a:ea typeface="Arial"/>
              </a:rPr>
              <a:t>V.Hender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57140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л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4 основних потреба чов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ебе као компоненте здравствене нег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општем принципу д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а нега произилази из основних потреба чов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 се примењује и код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код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људи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вентив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атив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спект сестринств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ухвата све основне компоненте човека (физиолошке, емоционалне, социјалне и интелектуалне) које се остварују кроз следеће функциј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8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168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Потребе  човека – </a:t>
            </a:r>
            <a:r>
              <a:rPr b="1" i="1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V.Henders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680" y="114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. Дисањ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2. Унос течности и хра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3. Елиминацију кроз све путев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4. Покретање и одржавање жељеног положаја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ходање, седење, лежање и промена положај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 Сан и одм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6. Одабирање одговарајуће одеће, облачење, свлачењ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7. Одржавање телесне топлоте у н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им границама (прилагођавање одевања и модификовањем услова околин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8. Одржавање чистоће тела, заштита коже и слузокож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9. Избегавање и отклањање опасности из окружењ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0. Комуникација са друг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циљу испуњавања емоција, потр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1. Поштовање болесникових веровања и убеђењ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2. Рад на нечему што ствара осећај испуње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3. Игра и учествовање у разним облицима рекреациј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14. Учење, открић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1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4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Arial"/>
                <a:ea typeface="Arial"/>
              </a:rPr>
              <a:t>V.Henderson</a:t>
            </a:r>
            <a:r>
              <a:rPr b="1" i="1" lang="sr-CS" sz="2000" spc="-1" strike="noStrike">
                <a:solidFill>
                  <a:srgbClr val="04617b"/>
                </a:solidFill>
                <a:latin typeface="Arial"/>
                <a:ea typeface="Arial"/>
              </a:rPr>
              <a:t>  наводи  две групе чиниоца који утичу на потребу за негом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8584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атолошка стања која доводе до промена у основним људским потребам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тан поремећај биланса течности и електролита укључујући гладовање, тешка продужена повраћања и дијаре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потреба за кисеоник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ок (укључујући колапс и крвављењ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свести (несвестица, кома, делирију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ложеност хладноћи или топло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фебрилна стањ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калне повреде, рана, инфекциј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актибилна стања (инфективна стањ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оперативно ст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перативно ст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обилизација – болест или прописани третм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онгирани и упорни бо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3000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4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Arial"/>
                <a:ea typeface="Arial"/>
              </a:rPr>
              <a:t>V.Henderson</a:t>
            </a:r>
            <a:r>
              <a:rPr b="1" i="1" lang="sr-CS" sz="1800" spc="-1" strike="noStrike">
                <a:solidFill>
                  <a:srgbClr val="04617b"/>
                </a:solidFill>
                <a:latin typeface="Arial"/>
                <a:ea typeface="Arial"/>
              </a:rPr>
              <a:t> наводи две групе чиниоца који утичу на потребу за негом: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840" y="85680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) Стања која су увек присутна и утичу на основне људске потреб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а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– новорођенче, дете, младе особе, одрасли, средње доба, старије доба, умирући болесниц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мперамент – емоционално стање и пролазно расположе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нормално или еуфорично и хиперактивно; анксиозно, уплашено, агитирано, хистерично; депресивно и хипо-активно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и и културолошки статус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члан породичног домаћинства са пријатељима, статусом или особа релативно усамљена, заборавље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е и интелектуалне способно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ормална телесна маса, смањена , повећана; нормална , субнормална интелигенција, нормална чула, губитак неког чула; нормална моторика , покретљивост, губитак моторик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2000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Утврђивање потребе за здравственом него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7120" y="19346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и корак у процесу здравствене неге и активност која прожима све његове ф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купљање подата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, посматрање, мерење, анализа докумен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 извора податак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</a:t>
            </a:r>
            <a:r>
              <a:rPr b="1" lang="sl-SI" sz="22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ам болесник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Секундарни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е особе..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Терцијарни</a:t>
            </a:r>
            <a:r>
              <a:rPr b="1" lang="sl-SI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, стручни скупови..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нализа подата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визија, интерпретација, валид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финисање сестринске дијагно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9000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рикупљање подата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спекта прикупљања податак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о је имати на уму да за утврђивање потреба за негом треба обратити посебну пажњу 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изиолошке потр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е потр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е потреб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телектуалне потр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163000" cy="1603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8286480" cy="264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6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Систематски метод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који пружа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индивидуалну здравствену нег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, која је усмерена на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појединца или групу људ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, према њиховим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уелним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потенцијалним проблемима</a:t>
            </a:r>
            <a:r>
              <a:rPr b="1" lang="sr-CS" sz="19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15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рикупљање подата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24000" y="149976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 врши утврђивање потреба за негом на основ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анамне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даљег континуираног праћења болес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тврђене потреб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 класификоват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Приоритет утврђујемо пре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епену угожености здравља или жив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зишт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прикупљање података и процену потребе за негом и планирање и реализацију неге користи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арска дијагно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чине основу за постављ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дијагно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тврђивање потреба болесника за нег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1000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звори подата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болесник или родитељ, када је мало дете у питањ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члан породице или друго лице из непосредне околине, документација, чланови здравственог тим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рцијар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одговарајућа литература- стручна сестринска и медицинска; стручни скупов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8000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Фактори који утичу на прикупљање подата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изичко, психичко и емоционално стање болесника, али и медицинске сестр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 искуство у вези са садашњим стањ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разумевање догађаја, ситу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ултуролошко и социјално порекло и стањ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ање чу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лови у којима се пружају, примају информ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чне способности медицинске сест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4000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Начин прикупљања подата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57120" y="157140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вј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 физикалног процењивањ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посматрање, палпација, аускултација, разне технике мерењ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документациј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3000"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4617b"/>
                </a:solidFill>
                <a:latin typeface="Arial"/>
                <a:ea typeface="Arial"/>
              </a:rPr>
              <a:t>    </a:t>
            </a: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Интервј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2855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, у здравственој нези, је процес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е размене  вербалних  информација  између медицинске сестре и корис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их лица заинтересованих за његово ст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ао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 медицинске сестре и других чланова здравственог ти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учествују у третману тог болесни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 у фаз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упљања иницијалних података има посебно значење за сестринску анамне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служи стварању основе (базе ) података за почетну процену стања и 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овања корисника на пробл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агодити  здравственом стањ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асту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њу, интелектуални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другим особеностима корисни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9000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Интервј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57120" y="1571400"/>
            <a:ext cx="844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и разговор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 правилу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и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тако што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 саговорнику именом, презименом и функциј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у има у институцији и према њему,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јасни циљ разго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омињући да ће поставити пуно питања како би добила више података и обезбедила бољу нег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информација добијених при првом контакту са болесником, сачињава се сестринска дијагноза, па се препоручује вође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менски припремљеног разгов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9000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1472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   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тервју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4200" y="1142640"/>
            <a:ext cx="8515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оз планирани разговор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тврдиће с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л свакодневног живота болесни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како задовољава основне потребе - самостално или уз помоћ других лиц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та  карактерише свакодневни живот болесника, укључујући  породицу, поса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та болесник зна о својој садашњој боле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колико разуме свој здравствени пробле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кој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 реагује на садашње ст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а физичког, психолошког, социјалног аспек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с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психолошки проблеми 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са аспекта нег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о најчешћ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гује у стресним ситуацијам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ва с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а искуства болесника у болести и систему З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кога и какву помоћ појединац може да очек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 има посебних жељ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поглед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довољења његових потреба за негом и исхрано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4000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Физикални прегле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85480" y="149976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постоји неки озбиљан проблем (дисање, повреда..) посматр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ињемо од проблем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нема неких великих здравствених проблема употребљава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 " глава- ноге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(глава, врат, грудни кош, абдомен, гениталије, екстремитети, кожа, слузокож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а процена може бити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 системи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рдиоваскуларни; респираторни; локомоторни; чула – вид, слух, мирис, додир, укус; кожа; неуролошки и ментални статус; мишићи и кости; гастроинтестинални тракт; аногенитал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4000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Посматрање и испитивање потреб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(инспекциј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а треба систематски  посматрати од првог контак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док разговарам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при обављању медицинске интервен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док га негујем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посматрању се користе сва чула, чешће чуло вида, слуха и дод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1000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(посматрање) болесни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3640" y="1571400"/>
            <a:ext cx="8405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(посматрање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ка у медицини представља важан метод који има за циљ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очавање одређених појава или знакова на болесник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на основу којих се може донети одговарајући закључа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а се дели н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у инспекци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ну инспекци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Наша дефиниција ПЗ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ЗН ј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учно заснован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ада здравственог радник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медицинске сестре), усмерен н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овање и решавање потреба појединца, породице и заједнице за нег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које произилазе из њиховог реаговања на здравствене проблеме и друге животне ситуације у вези са здрављ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7000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00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Општа инспек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712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а инспекција подразумев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тела болесне особе у цели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ом инспекцијом (посматрањем) болесника могу се уоч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ести и оријентисан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ложај) болесн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итуција и ухрањен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ја кож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46000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71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Локална инспек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Локална инспекција обухват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е само одређеног дела тел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(главе, врата, грудног коша, трбуха, екстремитет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главе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, облик, космат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зраз ли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 и оток ли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оја коже ли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чни капци, булбу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клере, коњукти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блик, величина, проходност но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та (усне, језик, зуби, гингив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0000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Космати део лоба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лопеција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шчезавање косе на појединим деловима косматог дела лобањ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3" name="Picture 5" descr="Head lice"/>
          <p:cNvPicPr/>
          <p:nvPr/>
        </p:nvPicPr>
        <p:blipFill>
          <a:blip r:embed="rId1"/>
          <a:stretch/>
        </p:blipFill>
        <p:spPr>
          <a:xfrm>
            <a:off x="4859280" y="3429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hair_05"/>
          <p:cNvPicPr/>
          <p:nvPr/>
        </p:nvPicPr>
        <p:blipFill>
          <a:blip r:embed="rId2"/>
          <a:stretch/>
        </p:blipFill>
        <p:spPr>
          <a:xfrm>
            <a:off x="684360" y="2852640"/>
            <a:ext cx="3000240" cy="311472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505240" y="-6480"/>
            <a:ext cx="865008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55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ркастич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tetan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р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их особа са неоплазмо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стив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се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раз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езизраз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л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 Parkinsonov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оле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ратско лиц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и у тешком општем стању (дехидратациј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7" name="Picture 5" descr="parafac"/>
          <p:cNvPicPr/>
          <p:nvPr/>
        </p:nvPicPr>
        <p:blipFill>
          <a:blip r:embed="rId2"/>
          <a:stretch/>
        </p:blipFill>
        <p:spPr>
          <a:xfrm>
            <a:off x="5867280" y="2133720"/>
            <a:ext cx="2775240" cy="4246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pain"/>
          <p:cNvPicPr/>
          <p:nvPr/>
        </p:nvPicPr>
        <p:blipFill>
          <a:blip r:embed="rId3"/>
          <a:stretch/>
        </p:blipFill>
        <p:spPr>
          <a:xfrm>
            <a:off x="0" y="0"/>
            <a:ext cx="2463840" cy="1790640"/>
          </a:xfrm>
          <a:prstGeom prst="rect">
            <a:avLst/>
          </a:prstGeom>
          <a:ln w="0">
            <a:noFill/>
          </a:ln>
        </p:spPr>
      </p:pic>
    </p:spTree>
  </p:cSld>
  <p:transition spd="med" advTm="41000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03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4617b"/>
                </a:solidFill>
                <a:latin typeface="Arial"/>
                <a:ea typeface="Arial"/>
              </a:rPr>
              <a:t>J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ЕЗИ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језик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makroglosija, mikroglosij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лузнице језик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боје, површине, туморска маса, покрети језика..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5" descr="cr32"/>
          <p:cNvPicPr/>
          <p:nvPr/>
        </p:nvPicPr>
        <p:blipFill>
          <a:blip r:embed="rId1"/>
          <a:stretch/>
        </p:blipFill>
        <p:spPr>
          <a:xfrm>
            <a:off x="5580000" y="4076640"/>
            <a:ext cx="2928960" cy="2443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ict22"/>
          <p:cNvPicPr/>
          <p:nvPr/>
        </p:nvPicPr>
        <p:blipFill>
          <a:blip r:embed="rId2"/>
          <a:stretch/>
        </p:blipFill>
        <p:spPr>
          <a:xfrm>
            <a:off x="684360" y="4005360"/>
            <a:ext cx="3438360" cy="238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вра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блик и симетричнос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не вра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итаста жлезд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Лимфне жлезд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9000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71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Штитаста жлезда</a:t>
            </a:r>
            <a:r>
              <a:rPr b="1" i="1" lang="sr-Latn-CS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већ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фузна, ретростернална, нодоз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5" descr="4644"/>
          <p:cNvPicPr/>
          <p:nvPr/>
        </p:nvPicPr>
        <p:blipFill>
          <a:blip r:embed="rId1"/>
          <a:stretch/>
        </p:blipFill>
        <p:spPr>
          <a:xfrm>
            <a:off x="1332000" y="3141720"/>
            <a:ext cx="2300040" cy="3284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struma1"/>
          <p:cNvPicPr/>
          <p:nvPr/>
        </p:nvPicPr>
        <p:blipFill>
          <a:blip r:embed="rId2"/>
          <a:stretch/>
        </p:blipFill>
        <p:spPr>
          <a:xfrm>
            <a:off x="4500720" y="3429000"/>
            <a:ext cx="3457440" cy="2951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5000" spc="-1" strike="noStrike">
                <a:solidFill>
                  <a:srgbClr val="04617b"/>
                </a:solidFill>
                <a:latin typeface="Arial"/>
                <a:ea typeface="Arial"/>
              </a:rPr>
              <a:t>T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уморске масе вра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1" name="Picture 5" descr="thryglossalcyst"/>
          <p:cNvPicPr/>
          <p:nvPr/>
        </p:nvPicPr>
        <p:blipFill>
          <a:blip r:embed="rId1"/>
          <a:stretch/>
        </p:blipFill>
        <p:spPr>
          <a:xfrm>
            <a:off x="826920" y="3068640"/>
            <a:ext cx="2648160" cy="2597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fig2_416"/>
          <p:cNvPicPr/>
          <p:nvPr/>
        </p:nvPicPr>
        <p:blipFill>
          <a:blip r:embed="rId2"/>
          <a:stretch/>
        </p:blipFill>
        <p:spPr>
          <a:xfrm>
            <a:off x="4572000" y="2997360"/>
            <a:ext cx="3133800" cy="2676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грудног кош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ип грудног кош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покретљив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6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ЗН – значај методе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571400"/>
            <a:ext cx="8607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ј са становишта штићеник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тићеник ј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ктивни учесник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це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безбеђује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инуитет не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иже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сећај континуитета не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иже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сећај сигурнос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довољ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тићеник добиј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валитетнију не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утиче н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 стањ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валитет живо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краћу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рем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оспитализ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5000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Arial"/>
                <a:ea typeface="Arial"/>
              </a:rPr>
              <a:t>Грудни кош - инспекциј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615636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чваст грудни кош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мфизем плућа, кифо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симетричност грудног кош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ормација, фиброза, атхезије плеуре, велики плеурални изли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хипне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фреквенце дисајних циклу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)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инсуфицијенција, инфилтрација плућ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7" name="Picture 6" descr="pectus_excavatum"/>
          <p:cNvPicPr/>
          <p:nvPr/>
        </p:nvPicPr>
        <p:blipFill>
          <a:blip r:embed="rId1"/>
          <a:stretch/>
        </p:blipFill>
        <p:spPr>
          <a:xfrm>
            <a:off x="6662880" y="4873680"/>
            <a:ext cx="2481120" cy="1984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5481_01220682920"/>
          <p:cNvPicPr/>
          <p:nvPr/>
        </p:nvPicPr>
        <p:blipFill>
          <a:blip r:embed="rId2"/>
          <a:stretch/>
        </p:blipFill>
        <p:spPr>
          <a:xfrm>
            <a:off x="6810480" y="2133720"/>
            <a:ext cx="2333520" cy="2666880"/>
          </a:xfrm>
          <a:prstGeom prst="rect">
            <a:avLst/>
          </a:prstGeom>
          <a:ln w="0">
            <a:noFill/>
          </a:ln>
        </p:spPr>
      </p:pic>
    </p:spTree>
  </p:cSld>
  <p:transition spd="med" advTm="52000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трбуха (абдомена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бух у равни грудног коша (изнад, испод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а покретљивос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братити пажњу на: ожиљке, колатерални крвоток, херније, хематоми 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6000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f6fc6"/>
                </a:solidFill>
                <a:latin typeface="Arial"/>
                <a:ea typeface="Arial"/>
              </a:rPr>
              <a:t>     </a:t>
            </a:r>
            <a:r>
              <a:rPr b="1" i="1" lang="sr-CS" sz="4400" spc="-1" strike="noStrike">
                <a:solidFill>
                  <a:srgbClr val="0f6fc6"/>
                </a:solidFill>
                <a:latin typeface="Arial"/>
                <a:ea typeface="Arial"/>
              </a:rPr>
              <a:t>Облик трбушног зид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52" name="Picture 7" descr="f21-07-X3243"/>
          <p:cNvPicPr/>
          <p:nvPr/>
        </p:nvPicPr>
        <p:blipFill>
          <a:blip r:embed="rId1"/>
          <a:stretch/>
        </p:blipFill>
        <p:spPr>
          <a:xfrm>
            <a:off x="396720" y="1870200"/>
            <a:ext cx="8347320" cy="3114720"/>
          </a:xfrm>
          <a:prstGeom prst="rect">
            <a:avLst/>
          </a:prstGeom>
          <a:ln w="38160">
            <a:solidFill>
              <a:srgbClr val="04617b"/>
            </a:solidFill>
            <a:miter/>
          </a:ln>
        </p:spPr>
      </p:pic>
    </p:spTree>
  </p:cSld>
  <p:transition spd="med" advTm="14000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f6fc6"/>
                </a:solidFill>
                <a:latin typeface="Arial"/>
              </a:rPr>
              <a:t>Асците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54" name="Picture 7" descr="abdomen_ascites6"/>
          <p:cNvPicPr/>
          <p:nvPr/>
        </p:nvPicPr>
        <p:blipFill>
          <a:blip r:embed="rId1"/>
          <a:stretch/>
        </p:blipFill>
        <p:spPr>
          <a:xfrm>
            <a:off x="0" y="1989000"/>
            <a:ext cx="2771640" cy="2438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http://drugline.org/img/ail/2353_2369_1.jpg"/>
          <p:cNvPicPr/>
          <p:nvPr/>
        </p:nvPicPr>
        <p:blipFill>
          <a:blip r:embed="rId2"/>
          <a:stretch/>
        </p:blipFill>
        <p:spPr>
          <a:xfrm>
            <a:off x="2771640" y="1916280"/>
            <a:ext cx="3095640" cy="4498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tumblr_m86xkhaAr61qc3dr2o1_500"/>
          <p:cNvPicPr/>
          <p:nvPr/>
        </p:nvPicPr>
        <p:blipFill>
          <a:blip r:embed="rId3"/>
          <a:stretch/>
        </p:blipFill>
        <p:spPr>
          <a:xfrm>
            <a:off x="5940360" y="2133720"/>
            <a:ext cx="3203640" cy="416556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f6fc6"/>
                </a:solidFill>
                <a:latin typeface="Arial"/>
                <a:ea typeface="Arial"/>
              </a:rPr>
              <a:t>Колатерални поткожни крвоток – </a:t>
            </a:r>
            <a:r>
              <a:rPr b="1" i="1" lang="sr-Latn-CS" sz="4400" spc="-1" strike="noStrike">
                <a:solidFill>
                  <a:srgbClr val="0f6fc6"/>
                </a:solidFill>
                <a:latin typeface="Arial"/>
                <a:ea typeface="Arial"/>
              </a:rPr>
              <a:t>Caput meduse</a:t>
            </a:r>
            <a:r>
              <a:rPr b="1" i="1" lang="sr-Latn-CS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58" name="Picture 4" descr="caput meduse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caput-medusa 2"/>
          <p:cNvPicPr/>
          <p:nvPr/>
        </p:nvPicPr>
        <p:blipFill>
          <a:blip r:embed="rId2"/>
          <a:stretch/>
        </p:blipFill>
        <p:spPr>
          <a:xfrm>
            <a:off x="3924360" y="2276640"/>
            <a:ext cx="4608360" cy="3952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43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2060"/>
                </a:solidFill>
                <a:latin typeface="Arial"/>
              </a:rPr>
              <a:t>Стрије </a:t>
            </a:r>
            <a:r>
              <a:rPr b="1" i="1" lang="sr-CS" sz="3600" spc="-1" strike="noStrike">
                <a:solidFill>
                  <a:srgbClr val="00206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002060"/>
                </a:solidFill>
                <a:latin typeface="Arial"/>
                <a:ea typeface="Arial"/>
              </a:rPr>
              <a:t>linea albicantes)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61" name="Picture 5" descr="linea%20albicans"/>
          <p:cNvPicPr/>
          <p:nvPr/>
        </p:nvPicPr>
        <p:blipFill>
          <a:blip r:embed="rId1"/>
          <a:stretch/>
        </p:blipFill>
        <p:spPr>
          <a:xfrm>
            <a:off x="971640" y="263700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striaeofPregnancy_45916_med"/>
          <p:cNvPicPr/>
          <p:nvPr/>
        </p:nvPicPr>
        <p:blipFill>
          <a:blip r:embed="rId2"/>
          <a:stretch/>
        </p:blipFill>
        <p:spPr>
          <a:xfrm>
            <a:off x="5003640" y="2492280"/>
            <a:ext cx="3313440" cy="26654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5000760" y="4857840"/>
            <a:ext cx="3857400" cy="1785960"/>
          </a:xfrm>
          <a:prstGeom prst="rect">
            <a:avLst/>
          </a:prstGeom>
          <a:solidFill>
            <a:srgbClr val="0f6fc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, гојазност, хроничан асцитес, нагло повећање Т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 – љубичасте ст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2060"/>
                </a:solidFill>
                <a:latin typeface="Arial"/>
                <a:ea typeface="Arial"/>
              </a:rPr>
              <a:t>Инспекција абдом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205740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f6fc6"/>
                </a:solidFill>
                <a:latin typeface="Arial"/>
                <a:ea typeface="Arial"/>
              </a:rPr>
              <a:t>Респираторна  покретљивост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/ деца – абдоминални тип дисањ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е – торакални тип дисањ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респираторна покретљивост – суспектан перитонити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8000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Инспекција екстремите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тоц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формите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8000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Процена прикупљених подата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ц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је мисаони чин који прати сваки корак у прикупљању података о болеснику.Посебно ј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а у фази иницијалног прикупљања податак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то што се све следеће етапе ПЗН заснивају на њој и зависе од ваљаности подата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снов за процену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у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из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е анамане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подаци 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2000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Документовање подата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овање података ј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ставни део сваке појединачне етапе ПЗ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 фази утврђивања потреба за негом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се уносе у одговарајући образац сестринске анамнез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5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ПЗН – значај методе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1499760"/>
            <a:ext cx="93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Значај са становишта сестринства: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страживачк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етода – евалуација и развој сестрин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еном проце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стре се стручно усавршава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азвија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ритичко, каузално мишљењ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могућав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авршавање документације здравствене нег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изра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нормати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клађу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с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ад тим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не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диже сестринску професију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иш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сложениј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и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4000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473" name="_s4100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4101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4102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4103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4104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4105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4106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4107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4108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4109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9"/>
          <p:cNvSpPr/>
          <p:nvPr/>
        </p:nvSpPr>
        <p:spPr>
          <a:xfrm>
            <a:off x="5500800" y="435780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4880" y="785520"/>
            <a:ext cx="8709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l-SI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1" lang="sr-CS" sz="35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 </a:t>
            </a:r>
            <a:r>
              <a:rPr b="0" lang="sr-CS" sz="2800" spc="-1" strike="noStrike">
                <a:solidFill>
                  <a:srgbClr val="04617b"/>
                </a:solidFill>
                <a:latin typeface="Arial"/>
                <a:ea typeface="Arial"/>
              </a:rPr>
              <a:t>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куп података о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есним 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им 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им аспектим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шлог и садашњег здравственог стања 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нашања здравог или болесног пацијента 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рху утврђивања потреба за здравствен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м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Fučkar, 1992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5000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28400" y="1356840"/>
            <a:ext cx="8429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уп податак о болеснику које медицинска сестра прикуп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ом и физикалним преглед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циљу постављања сестринске дијагно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 утврђивања потреба за негом. Има сестрински приступ, усмерена је на болесника  - његово стање и реаговање на болес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туп и редослед прикупљања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утврђивање потреба за негом и формирање сестринске анамнезе зависе 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жине стања болесника и степена виталне угроже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итичним ситуацијама прво се задовоље тренутне виталне потребе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тек потом се приступа прикупљању и документовању подата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ради утврђивања сестринске дијагнозе и планирања З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х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стра идентификује проблеме, класификује их према приоритету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носи у план З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39000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i="1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  </a:t>
            </a:r>
            <a:br>
              <a:rPr sz="3200"/>
            </a:br>
            <a:r>
              <a:rPr b="1" i="1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                   (пример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.Н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.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десетогодишња учитељица из Крагујевца, живи са супругом и две ћерке. Хоспитализована је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0. 10. 2010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одине под медицинском дијагнозом улкуса желуц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иком прегледа пацијенткиња седи, свест очувана, орјентисана.Телесна висина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cm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есна тежин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0 kg. 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 бледа, доброг тургора, субфебрилна. Усна шупљина без наслага. Пулс добро пуњен, ритмичан, фрек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. 82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ање нормалне дубине, фрек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1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м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000760" y="1714680"/>
            <a:ext cx="4143240" cy="3571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стил свакодневног живота болесника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(како задовољава основне потребе - самостално или уз помоћ других л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шта 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карактерише свакодневни живот болесника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, укључујући  породицу, поса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шта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болесник зна о својој садашњој болести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и колико разуме свој здравствени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на који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начин болесник реагује на садашње стање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– са физичког, психолошког, социјалног асп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оји </a:t>
            </a: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су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 најважнији психолошки проблеми  болесника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, са аспекта нег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ако најчешће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реагује у стресним ситуација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каква су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претходна искуства болесника у болести и систему З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од кога и какву помоћ појединац може да очеку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да ли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болесник има посебних жеља 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у погледу </a:t>
            </a:r>
            <a:r>
              <a:rPr b="1" lang="sr-CS" sz="1200" spc="-1" strike="noStrike">
                <a:solidFill>
                  <a:srgbClr val="ffffff"/>
                </a:solidFill>
                <a:latin typeface="Arial"/>
                <a:ea typeface="Arial"/>
              </a:rPr>
              <a:t>задовољења његових </a:t>
            </a:r>
            <a:r>
              <a:rPr b="1" lang="sr-CS" sz="1200" spc="-1" strike="noStrike">
                <a:solidFill>
                  <a:srgbClr val="ffc000"/>
                </a:solidFill>
                <a:latin typeface="Arial"/>
                <a:ea typeface="Arial"/>
              </a:rPr>
              <a:t>потреба за негом и исхра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9000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до сада није озбиљно боловала.Никада није болнички лечена, осим два порођаја.Од 1995. године контролише се код кардиолога једном годишње због повремених аритмија. Задња кардиолошка контрола обављена је у новембру 2009. године. Прописан Андол тбл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a 100 mg 0+1+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вно их узима после руч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ћ месец дана осећа болове испод грудне кости типа жарења и мучнину.Проблеми се појачавају после јела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регледа лекара опште праксе упућена је на преглед код гастроентеролога, који предложио болничко лечење због даље дијагностик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а је на симптоматској терапији (лагана дијета, тбл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elusil-la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јел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1 + 1 + 1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57120" y="16426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тро доручкује око 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, попије црну кафу. .. Руча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3,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ије газирану или обичну воду, ретко пије сокове или чај. Иза ручка попије још једну црну каф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лкохол не конзум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чера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1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ема проблема са апетитом, осим до појаве симптома (мучнина и болови након јела), те је омршала око 4 килограма за месец да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тра да је болничка храна лагана и укусна. У болници дневно попије д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0,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а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кри четири пута дневно, столицу није имала већ три дана, каже " Осећам се надуве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е жели да иде у болнички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јер има страх од инфекције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1468800" y="42876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-360" y="1719360"/>
            <a:ext cx="85726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уди се око 06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ти ујутро. Дневни одмор користи око 12 до 13,30 сати.На спавање иде око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а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 без прекида и не користи помоћна средства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болници има проблема са несаницом, коју приписује страху од дијагностике.Каже да је чула да је гастроскопија неугодна. Каже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пим око 2 сата, а будим се око 05 сати, умор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754280" y="57168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57120" y="1214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ћа бол у пределу желуца типа жарења и каже:" Боли ме" и оцењује бол са 4 на скали 0-4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зна где је њена соба, купатило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дневни боравак, зна позвати сестру и ко је њен лечећи (ординирајући) лекар. Наводи самосталност при обављању основних људских потреб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на кућни ред болниц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води да су односи у породици одлични, али да на послу има доста стре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ушта је разговор са драгим људима и слушање музи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611360" y="35712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олесница је свесна свог стања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сказује страх и забринутост због исхода болести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е зна колико ће морати да мења животне навике.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д лечења очекује да се што пре постави коначна дијагноза како би се почело са циљаним лечењем.Жели да се што пре врати породици и обавезама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слонац и подршку проналази у својој породици,  која исказује забринутост у вези стања болеснице. Породица сваки дан долази у болничке посете.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611360" y="35712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анам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4617b"/>
                </a:solidFill>
                <a:latin typeface="Arial"/>
                <a:ea typeface="Arial"/>
              </a:rPr>
              <a:t>Дефиниција ПЗН </a:t>
            </a:r>
            <a:r>
              <a:rPr b="1" i="1" lang="sr-CS" sz="2800" spc="-1" strike="noStrike">
                <a:solidFill>
                  <a:srgbClr val="04617b"/>
                </a:solidFill>
                <a:latin typeface="Arial"/>
                <a:ea typeface="Arial"/>
              </a:rPr>
              <a:t>– </a:t>
            </a:r>
            <a:r>
              <a:rPr b="1" i="1" lang="sr-CS" sz="2400" spc="-1" strike="noStrike">
                <a:solidFill>
                  <a:srgbClr val="04617b"/>
                </a:solidFill>
                <a:latin typeface="Arial"/>
                <a:ea typeface="Arial"/>
              </a:rPr>
              <a:t>регионални биро (службе за сестринство) за Европу СЗО у Копенхагену (1980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1928520"/>
            <a:ext cx="871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"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 здравствене неге је промишљен, проблемски орјентисан приступ који укључује принципе и научне методе у задовољавању потреба људи за негом"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им се додаје да с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З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астоји од четири узастопн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пе (ФА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ланира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валуација у процесу З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7000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упљени подаци омогућавају препознавање проблема, откривање узрока проблема и избор најповољнијих интервен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рикупљања података за сестринску анамнезу, приступа се постављању дијагнозе у процесу здравствене нег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дијагноза је актуелни или потенцијални здравствени проблем који су медицинске сестре с обзиром на њихову едукацију и искуство способне и овлашћене третира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» (Fučkar,1992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8000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Сестринска дијагноз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стринска дијагноза се издвојила као посебна етапа процеса здравствене неге средином 70-тих година прошлог века, када је Америчко друштво медицинских сестара (АНА) прихватило и озаконило употребу ових терми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5000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514" name="_s5124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5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6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7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8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29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0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1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2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3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Box 2"/>
          <p:cNvSpPr/>
          <p:nvPr/>
        </p:nvSpPr>
        <p:spPr>
          <a:xfrm>
            <a:off x="535320" y="357120"/>
            <a:ext cx="83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9"/>
          <p:cNvSpPr/>
          <p:nvPr/>
        </p:nvSpPr>
        <p:spPr>
          <a:xfrm>
            <a:off x="3643200" y="557208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Планирање здравствене нег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5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за ПЗН која се настављ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ле изведених закључака о проблемима корисника, односно његовим реаговањим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блеме исказаним у сестринским дијагнозам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 овој фаз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 сестра још једном анализира утврђене потребе за него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 овиру целокупног третмана 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сестринских дијагноза одабере стратегију за самосталне сестринске актив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2000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535" name="_s6148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49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0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1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2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3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4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5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6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57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Box 2"/>
          <p:cNvSpPr/>
          <p:nvPr/>
        </p:nvSpPr>
        <p:spPr>
          <a:xfrm>
            <a:off x="535320" y="357120"/>
            <a:ext cx="83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2071800" y="414324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ipe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Примена плана здравствене нег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56760" y="157140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н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ужање физичке нег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љу очувања, унапређивања и рестаурације здравља болесн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учавање болесника и његове породиц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 намером да се у оквиру њихове моћи оспособе 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 самонег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о васпит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у циљу саветовања болесника и породице да сачувају здрав начин жив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и процена знакова, симпто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других појава рад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лаговременог откривања и превенир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их пробле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вођење дијагностичко-терапеутских интервен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27000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556" name="_s7172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3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74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75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76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77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78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_s7179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_s7180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7181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естринска 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857760" y="5786280"/>
            <a:ext cx="1500120" cy="500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2357280" y="24289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9"/>
          <p:cNvSpPr/>
          <p:nvPr/>
        </p:nvSpPr>
        <p:spPr>
          <a:xfrm>
            <a:off x="2286000" y="2214720"/>
            <a:ext cx="19288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i="1" lang="sr-CS" sz="4400" spc="-1" strike="noStrike">
                <a:solidFill>
                  <a:srgbClr val="04617b"/>
                </a:solidFill>
                <a:latin typeface="Arial"/>
                <a:ea typeface="Arial"/>
              </a:rPr>
              <a:t>Евалуација  у ПЗ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лико је сестринска служба постигла у задовољавању болесникових потреба за нег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фикасност сестринског рад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 чиниоце који су утицали на успешност не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лики је допринос здравствене неге у целокупном третману болес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 утврди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лико су успешно обављене све етапе ПЗ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6000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2850120" y="2355840"/>
            <a:ext cx="204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В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Diagram 5"/>
          <p:cNvGrpSpPr/>
          <p:nvPr/>
        </p:nvGrpSpPr>
        <p:grpSpPr>
          <a:xfrm>
            <a:off x="2194560" y="2076120"/>
            <a:ext cx="4413240" cy="4324320"/>
            <a:chOff x="2194560" y="2076120"/>
            <a:chExt cx="4413240" cy="4324320"/>
          </a:xfrm>
        </p:grpSpPr>
        <p:sp>
          <p:nvSpPr>
            <p:cNvPr id="266" name="_s1028"/>
            <p:cNvSpPr/>
            <p:nvPr/>
          </p:nvSpPr>
          <p:spPr>
            <a:xfrm>
              <a:off x="3243240" y="2076120"/>
              <a:ext cx="2314800" cy="24174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029"/>
            <p:cNvSpPr/>
            <p:nvPr/>
          </p:nvSpPr>
          <p:spPr>
            <a:xfrm rot="4320000">
              <a:off x="3924720" y="2684520"/>
              <a:ext cx="2417760" cy="23144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030"/>
            <p:cNvSpPr/>
            <p:nvPr/>
          </p:nvSpPr>
          <p:spPr>
            <a:xfrm rot="8640000">
              <a:off x="3695040" y="3533400"/>
              <a:ext cx="2314440" cy="24174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400"/>
                <a:gd name="textAreaBottom" fmla="*/ 2417760 h 24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 rot="12960000">
              <a:off x="2788560" y="3531240"/>
              <a:ext cx="2314440" cy="241776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417760"/>
                <a:gd name="textAreaBottom" fmla="*/ 2418120 h 24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032"/>
            <p:cNvSpPr/>
            <p:nvPr/>
          </p:nvSpPr>
          <p:spPr>
            <a:xfrm rot="17280000">
              <a:off x="2459880" y="2682360"/>
              <a:ext cx="2417400" cy="231480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3"/>
            <p:cNvSpPr/>
            <p:nvPr/>
          </p:nvSpPr>
          <p:spPr>
            <a:xfrm>
              <a:off x="295596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AČ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034"/>
            <p:cNvSpPr/>
            <p:nvPr/>
          </p:nvSpPr>
          <p:spPr>
            <a:xfrm>
              <a:off x="562608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PLANIRA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5"/>
            <p:cNvSpPr/>
            <p:nvPr/>
          </p:nvSpPr>
          <p:spPr>
            <a:xfrm>
              <a:off x="3975120" y="545904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OVOĐE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2324160" y="4205160"/>
              <a:ext cx="85104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EVALU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7"/>
            <p:cNvSpPr/>
            <p:nvPr/>
          </p:nvSpPr>
          <p:spPr>
            <a:xfrm>
              <a:off x="4994280" y="2178720"/>
              <a:ext cx="8510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PROCJ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2"/>
          <p:cNvSpPr/>
          <p:nvPr/>
        </p:nvSpPr>
        <p:spPr>
          <a:xfrm>
            <a:off x="517320" y="35712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4617b"/>
                </a:solidFill>
                <a:latin typeface="Arial"/>
                <a:ea typeface="Arial"/>
              </a:rPr>
              <a:t>Фазе процеса здравствене не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5000760" y="2428920"/>
            <a:ext cx="121428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572080" y="4500720"/>
            <a:ext cx="1643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57760" y="5786280"/>
            <a:ext cx="1285920" cy="357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2286000" y="45007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вал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2643120" y="2428920"/>
            <a:ext cx="142884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Враћ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4617b"/>
                </a:solidFill>
                <a:latin typeface="Arial"/>
                <a:ea typeface="Arial"/>
              </a:rPr>
              <a:t>5 </a:t>
            </a:r>
            <a:r>
              <a:rPr b="1" i="1" lang="sr-CS" sz="3600" spc="-1" strike="noStrike">
                <a:solidFill>
                  <a:srgbClr val="04617b"/>
                </a:solidFill>
                <a:latin typeface="Arial"/>
                <a:ea typeface="Arial"/>
              </a:rPr>
              <a:t>фаза процеса здравствене нег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ле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. год већина теоретичара уводи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сестринску дијагноз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f6fc6"/>
                </a:solidFill>
                <a:latin typeface="Arial"/>
                <a:ea typeface="Arial"/>
              </a:rPr>
              <a:t>Фазе </a:t>
            </a:r>
            <a:r>
              <a:rPr b="1" lang="sl-SI" sz="2600" spc="-1" strike="noStrike">
                <a:solidFill>
                  <a:srgbClr val="0f6fc6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з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Ц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прикупљање подата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з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СЕСТРИНСКА ДИЈАГНО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3. фаз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ЛАНИРАЊ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4. фаза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МЕНА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фаз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ВАЛУ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1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9:47:08Z</dcterms:created>
  <dc:creator>maja cekerevac</dc:creator>
  <dc:description/>
  <dc:language>en-US</dc:language>
  <cp:lastModifiedBy>mannitou</cp:lastModifiedBy>
  <dcterms:modified xsi:type="dcterms:W3CDTF">2021-02-01T12:40:40Z</dcterms:modified>
  <cp:revision>108</cp:revision>
  <dc:subject/>
  <dc:title>Slide 1</dc:title>
</cp:coreProperties>
</file>